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9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9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G20 Cross-syndication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Alejandro, Anne, Catalina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Initial finding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Prominence of YouTub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YouTube is linked to but does not contain links in the commen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ontent platforms do not link outside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Where else are the photos and videos that are refered to?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0" y="2044800"/>
            <a:ext cx="11201400" cy="961380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2"/>
          <a:stretch/>
        </p:blipFill>
        <p:spPr>
          <a:xfrm>
            <a:off x="8877240" y="4915080"/>
            <a:ext cx="7277040" cy="38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69720" y="-127080"/>
            <a:ext cx="1046484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What are the platforms where content is syndicated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0" y="2044800"/>
            <a:ext cx="11201400" cy="961380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8877240" y="4915080"/>
            <a:ext cx="7277040" cy="38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Problem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799920" indent="-514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acebook: scraping links from Links pages in Groups. Workaround for Linkripper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99880" indent="-514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opy paste all links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1199880" indent="-514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put in skyp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1199880" indent="-514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follow all link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1199880" indent="-514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opy paste all link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1199880" indent="-514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put in link ripper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799920" indent="-514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craping links from a single website: NaviCrawler website down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... the growing importance of Facebook as a space where a public can be reached and informed and can enter into a dialogue to discuss issues of common interest and influence political decision-making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"/>
          <p:cNvSpPr/>
          <p:nvPr/>
        </p:nvSpPr>
        <p:spPr>
          <a:xfrm>
            <a:off x="1298880" y="7786080"/>
            <a:ext cx="684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41413"/>
                </a:solidFill>
                <a:latin typeface="Helvetica Neue"/>
                <a:ea typeface="Helvetica Neue"/>
              </a:rPr>
              <a:t>Networked Publics: The Double Articulation of Code and Politics on Facebook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"/>
          <p:cNvSpPr/>
          <p:nvPr/>
        </p:nvSpPr>
        <p:spPr>
          <a:xfrm>
            <a:off x="1281600" y="8245440"/>
            <a:ext cx="37803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1413"/>
                </a:solidFill>
                <a:latin typeface="Helvetica Neue Light"/>
                <a:ea typeface="Helvetica Neue Light"/>
              </a:rPr>
              <a:t>Ganaele Langloi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41413"/>
                </a:solidFill>
                <a:latin typeface="Helvetica Neue Light"/>
                <a:ea typeface="Helvetica Neue Light"/>
              </a:rPr>
              <a:t>University of Ontario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41413"/>
                </a:solidFill>
                <a:latin typeface="Helvetica Neue Light"/>
                <a:ea typeface="Helvetica Neue Light"/>
              </a:rPr>
              <a:t>Greg Elmer, Fenwick McKelvey, &amp; Zachary Devereaux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41413"/>
                </a:solidFill>
                <a:latin typeface="Helvetica Neue Light"/>
                <a:ea typeface="Helvetica Neue Light"/>
              </a:rPr>
              <a:t>Ryerson University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69720" y="1574640"/>
            <a:ext cx="10464840" cy="651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eoretically, the challenges primarily lie in understanding the uniqueness of social networking sites as assemblages where software processes, </a:t>
            </a: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atterns of information circulation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, communicative practices, social practices, and political contexts are articulated with and redefined by each other in complex way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Question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hat is the platform dependency of G20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an we map out the rich media ecology of a protest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hat is the scope of the scale of activism on Facebook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Startingpoin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10464840" cy="702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lect one of the largest G20 Toronto summit Facebook protest groups, "RESIST TORONTO G20 SUMMIT 2010" (over 6,800 members)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Identify other web spaces it is officially affiliated to: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ebsite: G20Central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witter account: @G20mobiliz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7873920" y="7264440"/>
            <a:ext cx="35434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685800" y="50760"/>
            <a:ext cx="11620440" cy="965196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4572000" y="3670200"/>
            <a:ext cx="354348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Step 1: Harvest outlinks from the three selected platfor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e Toronto Community Mobilization Network's website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(tool: NaviCrawler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e official Twitter account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(tool: copy paste in Harvester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e official Facebook group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(tool: semi-automatic Harvester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Step 2:  Examine which types of websites and respective content the outlinks refer to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nalyze link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ategorize (eg: video platform, photo platform, NGO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Step 3: Compare and contrast the three platforms' outlink network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oun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Visualize (Bubbleline tool)</a:t>
            </a:r>
            <a:br>
              <a:rPr sz="4200"/>
            </a:b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ebsite: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acebook: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witter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5079960" y="6222960"/>
            <a:ext cx="2832120" cy="1054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